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BD3-A028-42D4-AAEE-BFA1F8FD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FFA-46F1-4FB6-9546-426BED9F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C49-F844-47CA-9698-14406ACA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048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624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048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63624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C0E-7FAE-40B5-A9A1-E5CA59DF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DDE8-B73D-4999-820E-66ED5FAD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912D-7169-49C7-80A0-59F452FF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095F-7639-4841-B87E-F81DF48F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EE78-CF96-4E12-8590-8BB1B0A9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0BBA-0160-4449-9E24-E668D668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4360" y="306360"/>
            <a:ext cx="90680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8ED3-F9A2-452B-9618-90AD7EB2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D4EA-F8D9-40FE-B501-4D8B5472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8FB-FA6B-419B-94D7-BBA8C653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94D6-8A5E-4A20-96D2-DD769912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5ADA-9DD0-46B2-B04D-6435FA64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4B7B-13B7-4B2C-B455-6C34595D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4B83-6838-4FD9-82D9-A574AA90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048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3624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048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3624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7281-3BE5-4242-8DDD-C9D3C657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C27-248E-47F5-AE8B-36F08BEF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A5E-BC39-4CE1-AD07-5DB19117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101-2AB7-4828-9EE0-94A035F4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04360" y="306360"/>
            <a:ext cx="90680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FD7-3FA0-4948-B5DD-8F884823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A4F-A99F-49C2-8E8D-0AE6FF1F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951-D153-4960-888C-8F41F998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4422-F331-48D3-9531-126E2EF0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76040" cy="7639200"/>
            <a:chOff x="0" y="0"/>
            <a:chExt cx="10076040" cy="7639200"/>
          </a:xfrm>
        </p:grpSpPr>
        <p:sp>
          <p:nvSpPr>
            <p:cNvPr id="1" name=""/>
            <p:cNvSpPr/>
            <p:nvPr/>
          </p:nvSpPr>
          <p:spPr>
            <a:xfrm>
              <a:off x="0" y="3863880"/>
              <a:ext cx="4397400" cy="34419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367160"/>
              <a:ext cx="3691080" cy="28018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660840" y="5657760"/>
              <a:ext cx="6415200" cy="16448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17640"/>
              <a:ext cx="1698480" cy="2085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80000" y="1440"/>
              <a:ext cx="4492800" cy="39610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168960" y="1440"/>
              <a:ext cx="3819600" cy="2633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135080"/>
              <a:ext cx="1422360" cy="1405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3600"/>
              <a:ext cx="1328760" cy="1825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49640" y="6005520"/>
              <a:ext cx="5564160" cy="12985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6600" y="22212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7120" y="228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705636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7056360"/>
              <a:ext cx="10076040" cy="582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0640" y="399960"/>
              <a:ext cx="5575320" cy="3537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52600" y="512640"/>
              <a:ext cx="3746520" cy="312264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30720" y="3024360"/>
              <a:ext cx="4945320" cy="413532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30680" y="3254400"/>
              <a:ext cx="3778560" cy="33796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504720" y="6888240"/>
            <a:ext cx="234648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8600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7224840" y="6888240"/>
            <a:ext cx="234792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6AA50-C00D-46BA-AF68-90AF89C3C9CB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0076040" cy="7639200"/>
            <a:chOff x="0" y="0"/>
            <a:chExt cx="10076040" cy="7639200"/>
          </a:xfrm>
        </p:grpSpPr>
        <p:sp>
          <p:nvSpPr>
            <p:cNvPr id="61" name=""/>
            <p:cNvSpPr/>
            <p:nvPr/>
          </p:nvSpPr>
          <p:spPr>
            <a:xfrm>
              <a:off x="0" y="3863880"/>
              <a:ext cx="4397400" cy="34419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367160"/>
              <a:ext cx="3691080" cy="28018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60840" y="5657760"/>
              <a:ext cx="6415200" cy="16448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917640"/>
              <a:ext cx="1698480" cy="2085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80000" y="1440"/>
              <a:ext cx="4492800" cy="39610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68960" y="1440"/>
              <a:ext cx="3819600" cy="2633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135080"/>
              <a:ext cx="1422360" cy="1405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703600"/>
              <a:ext cx="1328760" cy="1825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49640" y="6005520"/>
              <a:ext cx="5564160" cy="12985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6600" y="22212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7120" y="228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705636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7056360"/>
              <a:ext cx="10076040" cy="582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0640" y="399960"/>
              <a:ext cx="5575320" cy="3537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52600" y="512640"/>
              <a:ext cx="3746520" cy="312264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30720" y="3024360"/>
              <a:ext cx="4945320" cy="413532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0680" y="3254400"/>
              <a:ext cx="3778560" cy="33796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015640"/>
            <a:ext cx="8564400" cy="1909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504720" y="6888240"/>
            <a:ext cx="234648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8600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34792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7258D-917B-41FB-B969-8A4787DF9BA5}" type="slidenum"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08000" y="1547640"/>
          <a:ext cx="8070480" cy="5727600"/>
        </p:xfrm>
        <a:graphic>
          <a:graphicData uri="http://schemas.openxmlformats.org/drawingml/2006/table">
            <a:tbl>
              <a:tblPr/>
              <a:tblGrid>
                <a:gridCol w="8070480"/>
              </a:tblGrid>
              <a:tr h="5899320">
                <a:tc>
                  <a:txBody>
                    <a:bodyPr lIns="90000" rIns="90000" tIns="58320" bIns="46800" anchor="t">
                      <a:noAutofit/>
                    </a:bodyPr>
                    <a:p>
                      <a:pPr marL="216000" indent="30240" algn="just">
                        <a:lnSpc>
                          <a:spcPct val="117000"/>
                        </a:lnSpc>
                        <a:spcBef>
                          <a:spcPts val="887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Un texto descriptivo es el que expone las características de una persona, animal, o cos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30240" algn="just">
                        <a:lnSpc>
                          <a:spcPct val="187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Describir es explicar con palabras cómo es alguien o algo. Es una especie de pintura o fotografía con palabr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30240" algn="just">
                        <a:lnSpc>
                          <a:spcPct val="187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odemos describir una persona, un animal, un objeto, un paisaje, un espacio, un ambiente, un estado de ánim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Clasificaciones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(I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79640" y="1763640"/>
          <a:ext cx="7995600" cy="5570280"/>
        </p:xfrm>
        <a:graphic>
          <a:graphicData uri="http://schemas.openxmlformats.org/drawingml/2006/table">
            <a:tbl>
              <a:tblPr/>
              <a:tblGrid>
                <a:gridCol w="3070440"/>
                <a:gridCol w="4925160"/>
              </a:tblGrid>
              <a:tr h="60624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la posición del autor del tex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08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Obje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Muestra la realidad tal y como 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2563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ubje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la realidad tal y como la percibe el habla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Clasificaciones (II)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4720" y="1768320"/>
          <a:ext cx="9151920" cy="5395680"/>
        </p:xfrm>
        <a:graphic>
          <a:graphicData uri="http://schemas.openxmlformats.org/drawingml/2006/table">
            <a:tbl>
              <a:tblPr/>
              <a:tblGrid>
                <a:gridCol w="2594160"/>
                <a:gridCol w="6557760"/>
              </a:tblGrid>
              <a:tr h="74808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enfoque adoptad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91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Realis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tende presentar lo bueno y lo malo; domina la objetividad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36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Idealis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solo lo bueno, o lo que le gusta al autor del texto; domina la subjetividad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681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Degrada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fundamentalmente lo malo, o lo que disgusta y produce desagrado al autor; domina la subjetividad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lasificaciones (III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04720" y="1908000"/>
          <a:ext cx="9220320" cy="5251680"/>
        </p:xfrm>
        <a:graphic>
          <a:graphicData uri="http://schemas.openxmlformats.org/drawingml/2006/table">
            <a:tbl>
              <a:tblPr/>
              <a:tblGrid>
                <a:gridCol w="2087640"/>
                <a:gridCol w="7132680"/>
              </a:tblGrid>
              <a:tr h="70992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tema (1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17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ersona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0960" indent="-210960" algn="just">
                        <a:lnSpc>
                          <a:spcPct val="11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1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osopografía: descripción de los detalles físico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2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topeya: descripción de los aspectos psíquicos, morales, los gustos y costumbr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3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Retrato: descripción complet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4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utorretrato: descripción del propio auto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5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aricatura: retrato subjetivo con fines humorísticos o satíricos; se exageran los detalles (hipérbole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Clasificaciones (IV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19280" y="1979640"/>
          <a:ext cx="8786160" cy="4576320"/>
        </p:xfrm>
        <a:graphic>
          <a:graphicData uri="http://schemas.openxmlformats.org/drawingml/2006/table">
            <a:tbl>
              <a:tblPr/>
              <a:tblGrid>
                <a:gridCol w="2468880"/>
                <a:gridCol w="6317280"/>
              </a:tblGrid>
              <a:tr h="71028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tema (2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spacio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Topografía: descripción de un lugar, una ciudad o pueblo, un paisaje. Podemos distinguir entre los espacios interiores y los exteriores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6360" y="250560"/>
            <a:ext cx="9074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Recursos lingüísticos (I)</a:t>
            </a:r>
            <a:br>
              <a:rPr sz="24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23800" y="1406520"/>
          <a:ext cx="9145800" cy="5901840"/>
        </p:xfrm>
        <a:graphic>
          <a:graphicData uri="http://schemas.openxmlformats.org/drawingml/2006/table">
            <a:tbl>
              <a:tblPr/>
              <a:tblGrid>
                <a:gridCol w="2568600"/>
                <a:gridCol w="6577200"/>
              </a:tblGrid>
              <a:tr h="2678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Verb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210960" indent="1116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SzPct val="100000"/>
                        <a:buBlip>
                          <a:blip r:embed="rId1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parecen muchos verbos copulativos (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er, estar, parecer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1116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SzPct val="100000"/>
                        <a:buBlip>
                          <a:blip r:embed="rId2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e observa que muchas formas verbales  van en presente o pretérito imperfecto de indicativ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32238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ustantiv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6000" indent="-211320" algn="just">
                        <a:lnSpc>
                          <a:spcPct val="13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n una descripción son frecuentes los sustantivos, pues es necesario concretar los distintos objetos o conceptos de los que hablamos. En general (descripciones de personas, animales, cosas, paisajes) serán sustantivos concre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Recursos lingüísticos (II)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79440" y="1508040"/>
          <a:ext cx="9437400" cy="5875200"/>
        </p:xfrm>
        <a:graphic>
          <a:graphicData uri="http://schemas.openxmlformats.org/drawingml/2006/table">
            <a:tbl>
              <a:tblPr/>
              <a:tblGrid>
                <a:gridCol w="1943280"/>
                <a:gridCol w="7494120"/>
              </a:tblGrid>
              <a:tr h="998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jetiv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216000" indent="1260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on muy abundantes, pues sirven para especificar o explicar detal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92636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verbi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6000" indent="-21132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contraremos adverbios de lugar, de tiempo, de cantidad (como modificadores de adjetivos, muchas veces, para indicar la gradación), y de modo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29502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para-ciones y metáfora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0960" indent="-210960" algn="just">
                        <a:lnSpc>
                          <a:spcPct val="11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 veces encontraremos diversas comparacio- nes ("símiles"), que sirven para ejemplificar, explicar o insistir (es decir, enfatizar) algunos detalles. En los textos descriptivos de tipo literario encontraremos muchas veces metáforas.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Esquema resumen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52360" y="2664000"/>
          <a:ext cx="7704000" cy="266472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266472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 continuación, para finalizar, te presentamos un mapa conceptual sobre la elaboración de un texto descript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1640" y="324000"/>
            <a:ext cx="9291960" cy="696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5:50:01Z</dcterms:created>
  <dc:creator>Guillermo </dc:creator>
  <dc:description/>
  <dc:language>en-US</dc:language>
  <cp:lastModifiedBy>Guillermo</cp:lastModifiedBy>
  <dcterms:modified xsi:type="dcterms:W3CDTF">2014-07-19T07:13:26Z</dcterms:modified>
  <cp:revision>15</cp:revision>
  <dc:subject/>
  <dc:title>EL TEXTO DESCRIPTIVO  </dc:title>
</cp:coreProperties>
</file>